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D81-C54B-4A1E-8AED-ABC2CAD4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045-DCCA-43D0-908C-BE69FC32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6EB-3DE8-479A-A166-DB483730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C8F-E134-4589-A1F1-093AD4E1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780-1EF4-40BB-9DF6-91983ACE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48A-55A7-41C3-A7C8-1E6496A9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CC3-40FD-4DF1-8F56-075FBF92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D7A-51C0-4D54-96DD-B589A931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390-D3CE-44E4-8922-5810E039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D28-C643-41A5-9ADA-E91E1A7F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336-07D7-4EE1-A582-1DDF7ED7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A08-DA4D-4B04-B45F-EDEC2F6C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BA0E-F3C2-4EA2-ADAD-E3A9B07133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03640" y="1268280"/>
            <a:ext cx="3692520" cy="4248360"/>
            <a:chOff x="3203640" y="1268280"/>
            <a:chExt cx="3692520" cy="4248360"/>
          </a:xfrm>
        </p:grpSpPr>
        <p:sp>
          <p:nvSpPr>
            <p:cNvPr id="42" name=""/>
            <p:cNvSpPr/>
            <p:nvPr/>
          </p:nvSpPr>
          <p:spPr>
            <a:xfrm>
              <a:off x="5580000" y="3160800"/>
              <a:ext cx="1316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creasing randomn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203640" y="1268280"/>
              <a:ext cx="2396880" cy="4248360"/>
              <a:chOff x="3203640" y="1268280"/>
              <a:chExt cx="2396880" cy="4248360"/>
            </a:xfrm>
          </p:grpSpPr>
          <p:sp>
            <p:nvSpPr>
              <p:cNvPr id="44" name=""/>
              <p:cNvSpPr/>
              <p:nvPr/>
            </p:nvSpPr>
            <p:spPr>
              <a:xfrm>
                <a:off x="4251240" y="149220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162320" y="184932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249800" y="220824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14760" y="243036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913280" y="2432160"/>
                <a:ext cx="1350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2880" y="2208240"/>
                <a:ext cx="133200" cy="136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22960" y="185112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224320" y="1494000"/>
                <a:ext cx="133560" cy="134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959360" y="127008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60840" y="126828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" name=""/>
              <p:cNvCxnSpPr>
                <a:stCxn id="44" idx="7"/>
                <a:endCxn id="53" idx="3"/>
              </p:cNvCxnSpPr>
              <p:nvPr/>
            </p:nvCxnSpPr>
            <p:spPr>
              <a:xfrm flipV="1">
                <a:off x="4365360" y="1383480"/>
                <a:ext cx="215280" cy="12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" name=""/>
              <p:cNvCxnSpPr>
                <a:stCxn id="44" idx="3"/>
                <a:endCxn id="45" idx="0"/>
              </p:cNvCxnSpPr>
              <p:nvPr/>
            </p:nvCxnSpPr>
            <p:spPr>
              <a:xfrm flipH="1">
                <a:off x="4229280" y="1607400"/>
                <a:ext cx="417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" name=""/>
              <p:cNvCxnSpPr>
                <a:stCxn id="45" idx="4"/>
                <a:endCxn id="46" idx="1"/>
              </p:cNvCxnSpPr>
              <p:nvPr/>
            </p:nvCxnSpPr>
            <p:spPr>
              <a:xfrm>
                <a:off x="4229280" y="1984320"/>
                <a:ext cx="40320" cy="24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" name=""/>
              <p:cNvCxnSpPr>
                <a:stCxn id="46" idx="5"/>
                <a:endCxn id="47" idx="1"/>
              </p:cNvCxnSpPr>
              <p:nvPr/>
            </p:nvCxnSpPr>
            <p:spPr>
              <a:xfrm>
                <a:off x="4363560" y="2323440"/>
                <a:ext cx="171000" cy="12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" name=""/>
              <p:cNvCxnSpPr>
                <a:stCxn id="47" idx="6"/>
                <a:endCxn id="48" idx="2"/>
              </p:cNvCxnSpPr>
              <p:nvPr/>
            </p:nvCxnSpPr>
            <p:spPr>
              <a:xfrm>
                <a:off x="4648320" y="2498040"/>
                <a:ext cx="2653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9" name=""/>
              <p:cNvCxnSpPr>
                <a:stCxn id="48" idx="7"/>
                <a:endCxn id="49" idx="3"/>
              </p:cNvCxnSpPr>
              <p:nvPr/>
            </p:nvCxnSpPr>
            <p:spPr>
              <a:xfrm flipV="1">
                <a:off x="5028480" y="2324880"/>
                <a:ext cx="214200" cy="12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0" name=""/>
              <p:cNvCxnSpPr>
                <a:stCxn id="49" idx="7"/>
                <a:endCxn id="50" idx="4"/>
              </p:cNvCxnSpPr>
              <p:nvPr/>
            </p:nvCxnSpPr>
            <p:spPr>
              <a:xfrm flipV="1">
                <a:off x="5336640" y="1986120"/>
                <a:ext cx="5328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" name=""/>
              <p:cNvCxnSpPr>
                <a:stCxn id="50" idx="0"/>
                <a:endCxn id="51" idx="5"/>
              </p:cNvCxnSpPr>
              <p:nvPr/>
            </p:nvCxnSpPr>
            <p:spPr>
              <a:xfrm flipH="1" flipV="1">
                <a:off x="5338440" y="1609200"/>
                <a:ext cx="5148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" name=""/>
              <p:cNvCxnSpPr>
                <a:stCxn id="51" idx="1"/>
                <a:endCxn id="52" idx="5"/>
              </p:cNvCxnSpPr>
              <p:nvPr/>
            </p:nvCxnSpPr>
            <p:spPr>
              <a:xfrm flipH="1" flipV="1">
                <a:off x="5073120" y="1385280"/>
                <a:ext cx="171000" cy="12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" name=""/>
              <p:cNvCxnSpPr>
                <a:stCxn id="52" idx="2"/>
                <a:endCxn id="53" idx="6"/>
              </p:cNvCxnSpPr>
              <p:nvPr/>
            </p:nvCxnSpPr>
            <p:spPr>
              <a:xfrm flipH="1" flipV="1">
                <a:off x="4694040" y="1335960"/>
                <a:ext cx="26568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" name=""/>
              <p:cNvCxnSpPr>
                <a:stCxn id="44" idx="7"/>
                <a:endCxn id="52" idx="3"/>
              </p:cNvCxnSpPr>
              <p:nvPr/>
            </p:nvCxnSpPr>
            <p:spPr>
              <a:xfrm flipV="1">
                <a:off x="4365360" y="1385280"/>
                <a:ext cx="613800" cy="12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" name=""/>
              <p:cNvCxnSpPr>
                <a:stCxn id="53" idx="5"/>
                <a:endCxn id="51" idx="1"/>
              </p:cNvCxnSpPr>
              <p:nvPr/>
            </p:nvCxnSpPr>
            <p:spPr>
              <a:xfrm>
                <a:off x="4674600" y="1383480"/>
                <a:ext cx="569520" cy="130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" name=""/>
              <p:cNvCxnSpPr>
                <a:stCxn id="52" idx="5"/>
                <a:endCxn id="50" idx="1"/>
              </p:cNvCxnSpPr>
              <p:nvPr/>
            </p:nvCxnSpPr>
            <p:spPr>
              <a:xfrm>
                <a:off x="5073120" y="1385280"/>
                <a:ext cx="26964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" name=""/>
              <p:cNvCxnSpPr>
                <a:stCxn id="51" idx="4"/>
                <a:endCxn id="49" idx="0"/>
              </p:cNvCxnSpPr>
              <p:nvPr/>
            </p:nvCxnSpPr>
            <p:spPr>
              <a:xfrm flipH="1">
                <a:off x="5289480" y="1628640"/>
                <a:ext cx="2160" cy="57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8" name=""/>
              <p:cNvCxnSpPr>
                <a:stCxn id="50" idx="3"/>
                <a:endCxn id="48" idx="7"/>
              </p:cNvCxnSpPr>
              <p:nvPr/>
            </p:nvCxnSpPr>
            <p:spPr>
              <a:xfrm flipH="1">
                <a:off x="5028480" y="1966320"/>
                <a:ext cx="31428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9" name=""/>
              <p:cNvCxnSpPr>
                <a:stCxn id="49" idx="2"/>
                <a:endCxn id="47" idx="6"/>
              </p:cNvCxnSpPr>
              <p:nvPr/>
            </p:nvCxnSpPr>
            <p:spPr>
              <a:xfrm flipH="1">
                <a:off x="4648320" y="2276640"/>
                <a:ext cx="574920" cy="221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" name=""/>
              <p:cNvCxnSpPr>
                <a:stCxn id="48" idx="2"/>
                <a:endCxn id="46" idx="6"/>
              </p:cNvCxnSpPr>
              <p:nvPr/>
            </p:nvCxnSpPr>
            <p:spPr>
              <a:xfrm flipH="1" flipV="1">
                <a:off x="4383000" y="2275920"/>
                <a:ext cx="530640" cy="22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" name=""/>
              <p:cNvCxnSpPr>
                <a:stCxn id="47" idx="1"/>
                <a:endCxn id="45" idx="5"/>
              </p:cNvCxnSpPr>
              <p:nvPr/>
            </p:nvCxnSpPr>
            <p:spPr>
              <a:xfrm flipH="1" flipV="1">
                <a:off x="4276440" y="1964520"/>
                <a:ext cx="25812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2" name=""/>
              <p:cNvCxnSpPr>
                <a:stCxn id="46" idx="0"/>
                <a:endCxn id="44" idx="4"/>
              </p:cNvCxnSpPr>
              <p:nvPr/>
            </p:nvCxnSpPr>
            <p:spPr>
              <a:xfrm flipV="1">
                <a:off x="4316400" y="1627200"/>
                <a:ext cx="2160" cy="581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3" name=""/>
              <p:cNvCxnSpPr>
                <a:stCxn id="45" idx="7"/>
                <a:endCxn id="53" idx="3"/>
              </p:cNvCxnSpPr>
              <p:nvPr/>
            </p:nvCxnSpPr>
            <p:spPr>
              <a:xfrm flipV="1">
                <a:off x="4276440" y="1383480"/>
                <a:ext cx="30420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4" name=""/>
              <p:cNvSpPr/>
              <p:nvPr/>
            </p:nvSpPr>
            <p:spPr>
              <a:xfrm>
                <a:off x="4249800" y="296532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160880" y="332424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48000" y="368136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13320" y="3905280"/>
                <a:ext cx="1350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13280" y="390528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222880" y="3683160"/>
                <a:ext cx="133200" cy="134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321160" y="3324240"/>
                <a:ext cx="133560" cy="136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22880" y="296712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957560" y="274320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559400" y="2741760"/>
                <a:ext cx="133200" cy="136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" name=""/>
              <p:cNvCxnSpPr>
                <a:stCxn id="78" idx="1"/>
                <a:endCxn id="83" idx="3"/>
              </p:cNvCxnSpPr>
              <p:nvPr/>
            </p:nvCxnSpPr>
            <p:spPr>
              <a:xfrm flipH="1" flipV="1">
                <a:off x="4578840" y="2858400"/>
                <a:ext cx="354240" cy="1067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5" name=""/>
              <p:cNvCxnSpPr>
                <a:stCxn id="74" idx="3"/>
                <a:endCxn id="75" idx="0"/>
              </p:cNvCxnSpPr>
              <p:nvPr/>
            </p:nvCxnSpPr>
            <p:spPr>
              <a:xfrm flipH="1">
                <a:off x="4227480" y="3080520"/>
                <a:ext cx="42120" cy="24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" name=""/>
              <p:cNvCxnSpPr>
                <a:stCxn id="81" idx="3"/>
                <a:endCxn id="76" idx="6"/>
              </p:cNvCxnSpPr>
              <p:nvPr/>
            </p:nvCxnSpPr>
            <p:spPr>
              <a:xfrm flipH="1">
                <a:off x="4381560" y="3082320"/>
                <a:ext cx="861120" cy="66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" name=""/>
              <p:cNvCxnSpPr>
                <a:stCxn id="76" idx="5"/>
                <a:endCxn id="77" idx="1"/>
              </p:cNvCxnSpPr>
              <p:nvPr/>
            </p:nvCxnSpPr>
            <p:spPr>
              <a:xfrm>
                <a:off x="4362120" y="3796560"/>
                <a:ext cx="171360" cy="12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" name=""/>
              <p:cNvCxnSpPr>
                <a:stCxn id="77" idx="6"/>
                <a:endCxn id="78" idx="2"/>
              </p:cNvCxnSpPr>
              <p:nvPr/>
            </p:nvCxnSpPr>
            <p:spPr>
              <a:xfrm>
                <a:off x="4648320" y="3972960"/>
                <a:ext cx="26532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"/>
              <p:cNvCxnSpPr>
                <a:stCxn id="78" idx="7"/>
                <a:endCxn id="79" idx="3"/>
              </p:cNvCxnSpPr>
              <p:nvPr/>
            </p:nvCxnSpPr>
            <p:spPr>
              <a:xfrm flipV="1">
                <a:off x="5027040" y="3798360"/>
                <a:ext cx="215640" cy="12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"/>
              <p:cNvCxnSpPr>
                <a:stCxn id="79" idx="7"/>
                <a:endCxn id="80" idx="4"/>
              </p:cNvCxnSpPr>
              <p:nvPr/>
            </p:nvCxnSpPr>
            <p:spPr>
              <a:xfrm flipV="1">
                <a:off x="5336640" y="3460680"/>
                <a:ext cx="5184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" name=""/>
              <p:cNvCxnSpPr>
                <a:stCxn id="80" idx="0"/>
                <a:endCxn id="81" idx="5"/>
              </p:cNvCxnSpPr>
              <p:nvPr/>
            </p:nvCxnSpPr>
            <p:spPr>
              <a:xfrm flipH="1" flipV="1">
                <a:off x="5336640" y="3082320"/>
                <a:ext cx="5184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" name=""/>
              <p:cNvCxnSpPr>
                <a:stCxn id="81" idx="1"/>
                <a:endCxn id="82" idx="5"/>
              </p:cNvCxnSpPr>
              <p:nvPr/>
            </p:nvCxnSpPr>
            <p:spPr>
              <a:xfrm flipH="1" flipV="1">
                <a:off x="5071680" y="2858400"/>
                <a:ext cx="171000" cy="12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3" name=""/>
              <p:cNvCxnSpPr>
                <a:stCxn id="82" idx="2"/>
                <a:endCxn id="83" idx="6"/>
              </p:cNvCxnSpPr>
              <p:nvPr/>
            </p:nvCxnSpPr>
            <p:spPr>
              <a:xfrm flipH="1" flipV="1">
                <a:off x="4692600" y="2810160"/>
                <a:ext cx="2653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" name=""/>
              <p:cNvCxnSpPr>
                <a:stCxn id="74" idx="7"/>
                <a:endCxn id="82" idx="3"/>
              </p:cNvCxnSpPr>
              <p:nvPr/>
            </p:nvCxnSpPr>
            <p:spPr>
              <a:xfrm flipV="1">
                <a:off x="4363560" y="2858400"/>
                <a:ext cx="613800" cy="12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5" name=""/>
              <p:cNvCxnSpPr>
                <a:stCxn id="83" idx="5"/>
                <a:endCxn id="81" idx="1"/>
              </p:cNvCxnSpPr>
              <p:nvPr/>
            </p:nvCxnSpPr>
            <p:spPr>
              <a:xfrm>
                <a:off x="4673160" y="2858400"/>
                <a:ext cx="569520" cy="12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" name=""/>
              <p:cNvCxnSpPr>
                <a:stCxn id="82" idx="5"/>
                <a:endCxn id="80" idx="1"/>
              </p:cNvCxnSpPr>
              <p:nvPr/>
            </p:nvCxnSpPr>
            <p:spPr>
              <a:xfrm>
                <a:off x="5071680" y="2858400"/>
                <a:ext cx="26928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7" name=""/>
              <p:cNvCxnSpPr>
                <a:stCxn id="81" idx="4"/>
                <a:endCxn id="79" idx="0"/>
              </p:cNvCxnSpPr>
              <p:nvPr/>
            </p:nvCxnSpPr>
            <p:spPr>
              <a:xfrm>
                <a:off x="5289480" y="3102120"/>
                <a:ext cx="360" cy="581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" name=""/>
              <p:cNvCxnSpPr>
                <a:stCxn id="80" idx="3"/>
                <a:endCxn id="78" idx="7"/>
              </p:cNvCxnSpPr>
              <p:nvPr/>
            </p:nvCxnSpPr>
            <p:spPr>
              <a:xfrm flipH="1">
                <a:off x="5027040" y="3440880"/>
                <a:ext cx="313920" cy="48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9" name=""/>
              <p:cNvCxnSpPr>
                <a:stCxn id="79" idx="2"/>
                <a:endCxn id="77" idx="6"/>
              </p:cNvCxnSpPr>
              <p:nvPr/>
            </p:nvCxnSpPr>
            <p:spPr>
              <a:xfrm flipH="1">
                <a:off x="4648320" y="3750480"/>
                <a:ext cx="574920" cy="222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" name=""/>
              <p:cNvCxnSpPr>
                <a:stCxn id="78" idx="2"/>
                <a:endCxn id="76" idx="6"/>
              </p:cNvCxnSpPr>
              <p:nvPr/>
            </p:nvCxnSpPr>
            <p:spPr>
              <a:xfrm flipH="1" flipV="1">
                <a:off x="4381560" y="3749040"/>
                <a:ext cx="532080" cy="22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" name=""/>
              <p:cNvCxnSpPr>
                <a:stCxn id="77" idx="1"/>
                <a:endCxn id="75" idx="5"/>
              </p:cNvCxnSpPr>
              <p:nvPr/>
            </p:nvCxnSpPr>
            <p:spPr>
              <a:xfrm flipH="1" flipV="1">
                <a:off x="4274640" y="3439440"/>
                <a:ext cx="25884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" name=""/>
              <p:cNvCxnSpPr>
                <a:stCxn id="76" idx="0"/>
                <a:endCxn id="74" idx="4"/>
              </p:cNvCxnSpPr>
              <p:nvPr/>
            </p:nvCxnSpPr>
            <p:spPr>
              <a:xfrm flipV="1">
                <a:off x="4314960" y="3100320"/>
                <a:ext cx="1800" cy="581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3" name=""/>
              <p:cNvCxnSpPr>
                <a:stCxn id="75" idx="7"/>
                <a:endCxn id="79" idx="1"/>
              </p:cNvCxnSpPr>
              <p:nvPr/>
            </p:nvCxnSpPr>
            <p:spPr>
              <a:xfrm>
                <a:off x="4274640" y="3344040"/>
                <a:ext cx="968040" cy="358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4" name=""/>
              <p:cNvSpPr/>
              <p:nvPr/>
            </p:nvSpPr>
            <p:spPr>
              <a:xfrm>
                <a:off x="4249800" y="4442040"/>
                <a:ext cx="133200" cy="134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60880" y="480060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8000" y="515772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13320" y="5380200"/>
                <a:ext cx="135000" cy="134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13280" y="538164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222880" y="515952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321160" y="480060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222880" y="444348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7560" y="421956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59400" y="421812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" name=""/>
              <p:cNvCxnSpPr>
                <a:stCxn id="104" idx="7"/>
                <a:endCxn id="113" idx="3"/>
              </p:cNvCxnSpPr>
              <p:nvPr/>
            </p:nvCxnSpPr>
            <p:spPr>
              <a:xfrm flipV="1">
                <a:off x="4363560" y="4333320"/>
                <a:ext cx="215640" cy="12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" name=""/>
              <p:cNvCxnSpPr>
                <a:stCxn id="104" idx="5"/>
                <a:endCxn id="109" idx="2"/>
              </p:cNvCxnSpPr>
              <p:nvPr/>
            </p:nvCxnSpPr>
            <p:spPr>
              <a:xfrm>
                <a:off x="4363560" y="4557240"/>
                <a:ext cx="859680" cy="670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" name=""/>
              <p:cNvCxnSpPr>
                <a:stCxn id="105" idx="4"/>
                <a:endCxn id="111" idx="2"/>
              </p:cNvCxnSpPr>
              <p:nvPr/>
            </p:nvCxnSpPr>
            <p:spPr>
              <a:xfrm flipV="1">
                <a:off x="4227480" y="4511160"/>
                <a:ext cx="995760" cy="424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" name=""/>
              <p:cNvCxnSpPr>
                <a:stCxn id="106" idx="5"/>
                <a:endCxn id="109" idx="2"/>
              </p:cNvCxnSpPr>
              <p:nvPr/>
            </p:nvCxnSpPr>
            <p:spPr>
              <a:xfrm flipV="1">
                <a:off x="4362120" y="5227200"/>
                <a:ext cx="861120" cy="46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" name=""/>
              <p:cNvCxnSpPr>
                <a:stCxn id="107" idx="6"/>
                <a:endCxn id="110" idx="2"/>
              </p:cNvCxnSpPr>
              <p:nvPr/>
            </p:nvCxnSpPr>
            <p:spPr>
              <a:xfrm flipV="1">
                <a:off x="4648320" y="4868280"/>
                <a:ext cx="673200" cy="579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9" name=""/>
              <p:cNvCxnSpPr>
                <a:stCxn id="108" idx="7"/>
                <a:endCxn id="104" idx="5"/>
              </p:cNvCxnSpPr>
              <p:nvPr/>
            </p:nvCxnSpPr>
            <p:spPr>
              <a:xfrm flipH="1" flipV="1">
                <a:off x="4363560" y="4557240"/>
                <a:ext cx="663840" cy="84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0" name=""/>
              <p:cNvCxnSpPr>
                <a:stCxn id="106" idx="6"/>
                <a:endCxn id="110" idx="4"/>
              </p:cNvCxnSpPr>
              <p:nvPr/>
            </p:nvCxnSpPr>
            <p:spPr>
              <a:xfrm flipV="1">
                <a:off x="4381560" y="4935600"/>
                <a:ext cx="1006920" cy="290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" name=""/>
              <p:cNvCxnSpPr>
                <a:stCxn id="110" idx="0"/>
                <a:endCxn id="111" idx="5"/>
              </p:cNvCxnSpPr>
              <p:nvPr/>
            </p:nvCxnSpPr>
            <p:spPr>
              <a:xfrm flipH="1" flipV="1">
                <a:off x="5336640" y="4558680"/>
                <a:ext cx="5184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2" name=""/>
              <p:cNvCxnSpPr>
                <a:stCxn id="108" idx="0"/>
                <a:endCxn id="113" idx="5"/>
              </p:cNvCxnSpPr>
              <p:nvPr/>
            </p:nvCxnSpPr>
            <p:spPr>
              <a:xfrm flipH="1" flipV="1">
                <a:off x="4673160" y="4333320"/>
                <a:ext cx="307080" cy="1048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" name=""/>
              <p:cNvCxnSpPr>
                <a:stCxn id="112" idx="2"/>
                <a:endCxn id="106" idx="7"/>
              </p:cNvCxnSpPr>
              <p:nvPr/>
            </p:nvCxnSpPr>
            <p:spPr>
              <a:xfrm flipH="1">
                <a:off x="4362120" y="4287240"/>
                <a:ext cx="595800" cy="890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4" name=""/>
              <p:cNvCxnSpPr>
                <a:stCxn id="104" idx="7"/>
                <a:endCxn id="111" idx="2"/>
              </p:cNvCxnSpPr>
              <p:nvPr/>
            </p:nvCxnSpPr>
            <p:spPr>
              <a:xfrm>
                <a:off x="4363560" y="4461480"/>
                <a:ext cx="859680" cy="5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"/>
              <p:cNvCxnSpPr>
                <a:stCxn id="107" idx="7"/>
                <a:endCxn id="111" idx="1"/>
              </p:cNvCxnSpPr>
              <p:nvPr/>
            </p:nvCxnSpPr>
            <p:spPr>
              <a:xfrm flipV="1">
                <a:off x="4628520" y="4463280"/>
                <a:ext cx="614160" cy="936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"/>
              <p:cNvCxnSpPr>
                <a:stCxn id="112" idx="4"/>
                <a:endCxn id="108" idx="0"/>
              </p:cNvCxnSpPr>
              <p:nvPr/>
            </p:nvCxnSpPr>
            <p:spPr>
              <a:xfrm flipH="1">
                <a:off x="4979880" y="4354560"/>
                <a:ext cx="45000" cy="102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"/>
              <p:cNvCxnSpPr>
                <a:stCxn id="111" idx="4"/>
                <a:endCxn id="109" idx="0"/>
              </p:cNvCxnSpPr>
              <p:nvPr/>
            </p:nvCxnSpPr>
            <p:spPr>
              <a:xfrm>
                <a:off x="5289480" y="4578480"/>
                <a:ext cx="360" cy="581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8" name=""/>
              <p:cNvCxnSpPr>
                <a:stCxn id="110" idx="3"/>
                <a:endCxn id="108" idx="7"/>
              </p:cNvCxnSpPr>
              <p:nvPr/>
            </p:nvCxnSpPr>
            <p:spPr>
              <a:xfrm flipH="1">
                <a:off x="5027040" y="4915800"/>
                <a:ext cx="31392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" name=""/>
              <p:cNvCxnSpPr>
                <a:stCxn id="112" idx="3"/>
                <a:endCxn id="107" idx="7"/>
              </p:cNvCxnSpPr>
              <p:nvPr/>
            </p:nvCxnSpPr>
            <p:spPr>
              <a:xfrm flipH="1">
                <a:off x="4628520" y="4334760"/>
                <a:ext cx="348840" cy="1065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0" name=""/>
              <p:cNvCxnSpPr>
                <a:stCxn id="113" idx="3"/>
                <a:endCxn id="106" idx="6"/>
              </p:cNvCxnSpPr>
              <p:nvPr/>
            </p:nvCxnSpPr>
            <p:spPr>
              <a:xfrm flipH="1">
                <a:off x="4381560" y="4333320"/>
                <a:ext cx="197640" cy="89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" name=""/>
              <p:cNvCxnSpPr>
                <a:stCxn id="110" idx="2"/>
                <a:endCxn id="105" idx="5"/>
              </p:cNvCxnSpPr>
              <p:nvPr/>
            </p:nvCxnSpPr>
            <p:spPr>
              <a:xfrm flipH="1">
                <a:off x="4274640" y="4868280"/>
                <a:ext cx="104688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2" name=""/>
              <p:cNvCxnSpPr>
                <a:stCxn id="107" idx="0"/>
                <a:endCxn id="104" idx="4"/>
              </p:cNvCxnSpPr>
              <p:nvPr/>
            </p:nvCxnSpPr>
            <p:spPr>
              <a:xfrm flipH="1" flipV="1">
                <a:off x="4316400" y="4576680"/>
                <a:ext cx="264960" cy="80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" name=""/>
              <p:cNvCxnSpPr>
                <a:stCxn id="105" idx="7"/>
                <a:endCxn id="113" idx="3"/>
              </p:cNvCxnSpPr>
              <p:nvPr/>
            </p:nvCxnSpPr>
            <p:spPr>
              <a:xfrm flipV="1">
                <a:off x="4274640" y="4333320"/>
                <a:ext cx="304560" cy="48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4" name=""/>
              <p:cNvSpPr/>
              <p:nvPr/>
            </p:nvSpPr>
            <p:spPr>
              <a:xfrm>
                <a:off x="5600520" y="1700280"/>
                <a:ext cx="0" cy="338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03640" y="3259080"/>
                <a:ext cx="884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mall-world 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24160" y="4687920"/>
                <a:ext cx="884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ndom 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24160" y="1700280"/>
                <a:ext cx="884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gular 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521640" y="857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50:28Z</dcterms:modified>
  <cp:revision>24</cp:revision>
  <dc:subject/>
  <dc:title>Slide 1</dc:title>
</cp:coreProperties>
</file>